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5C9-148F-4A1D-A0E3-C3CC449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C9E-010D-498C-9236-286367EA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52D-B140-4F97-81AC-627DDBBD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30F-6865-4363-B362-7847A105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B42-6AF6-44C7-86AE-296818EB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154-3B1E-42A8-B6B3-7F732CC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114-F459-41C5-9AFD-62F7800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DDC-AE37-409D-A0F1-4815BC16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9F2-9081-4B00-8D55-B4C40FCD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6F2-9F57-40AB-A461-7247541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F13-022E-416A-8F43-AC9030E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442-D2D4-490F-886D-C929505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CC8-02E1-4E81-8C4D-26654598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2143080" cy="304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ilm 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ing to Americ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 film es un comico film sobre un príncipe qu visitas America a encotra su re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5943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ah’s Magical 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810200">
            <a:off x="685800" y="510552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1371600"/>
            <a:ext cx="2438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4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6:02:02Z</dcterms:created>
  <dc:creator>wilsonaleah</dc:creator>
  <dc:description/>
  <dc:language>en-US</dc:language>
  <cp:lastModifiedBy>wilsonaleah</cp:lastModifiedBy>
  <dcterms:modified xsi:type="dcterms:W3CDTF">2013-01-02T19:12:28Z</dcterms:modified>
  <cp:revision>3</cp:revision>
  <dc:subject/>
  <dc:title>Aleah’s Magical Cine</dc:title>
</cp:coreProperties>
</file>